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C828-D5FB-4A6D-8F1B-A460E2C21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503F-15E0-446B-B6C4-040551ADF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9EC6-BE9C-4310-A4A9-468CF1023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C21A-BFF2-4592-BB79-57D960F79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3CBEC-2840-4386-AECD-961CE896E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FBB09-8C1E-48A9-B2AC-DA4781C65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16076-F94D-49FB-9230-0D877ADF7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9C223-6302-432C-AC8D-4DE80F1A7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1B622-12F1-4732-AD5C-F56C03E56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3B9AD-C6CC-4B51-827C-ECAE8B242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532A9-32AE-45DA-B7DE-7514A4BD2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F536-BE75-4461-A92C-485BC5DF6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DFE48-EA35-40F5-850E-9322B299B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E9520-F32E-4B73-8469-BC7CE7530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2B970-38C9-4513-8260-B1CE37EDB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915EF-3AB0-4DD2-8AA6-1E30ABEB7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75086-5306-4102-A574-04B440999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45EB-A33D-4A79-9894-40637B8C1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C7BB-7F17-4A54-B492-0EE7E4146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B613-0F6A-4A17-9DD8-C7E0B57B0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9F68-D38D-4C3F-8C8C-0E80949BB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F5BF-5A3F-4C0B-B051-D77EDE7E1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CD48-8006-4C0F-8AF9-88342B143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9806-542F-41DE-998A-3889BF318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2185E-505C-4CF7-B5B7-A58FBC6DC4A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AEBBC-F4AC-4134-A577-77E84E1EA58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The Divided Kingdom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arter 6, Lesson 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 Kings14,15; 2 Chron.13 – 15: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ges 11-1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wo Main Point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reign of Jeroboam I, and his death. 13:1-14:20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udah under Rehoboam, Abijah, As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411120"/>
            <a:ext cx="9144000" cy="59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North and South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udah – Sou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hoboam –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cked by Shishak of Egypt for abandoning G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umbled himsel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rael – Nor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roboam –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inued his idolatry 1 Kgs.13:33-3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s son Abijah becomes i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eroboam sends his wife disguised to Ahijah to inquire of son’s f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North and South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udah – Sou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hoboam –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cked by Shishak of Egypt for abandoning G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umbled himsel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uled for 17 yea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ijah – 3 yea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ght Jerobo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on with God’s hel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rael – Nor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roboam –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eroboam sends his wife disguised to Ahijah to inquire of son’s f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hijah sees through her decep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lls of God’s disappointment in Jerobo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aster is com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North and South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udah – Sou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ijah di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ried in City of Dav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igned 41 yea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s a good k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troyed idols in Juda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tified c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rael – Nor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roboam –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ijah died in Jeroboam’s 2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year of rule in Isra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uled 2 more years for total of 22 yea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dab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 years – ev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ruck down by Baash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North and South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udah – Sou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hobo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ija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massive Ethiopian inva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a prayed for God’s hel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d gave a great vict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rael – Nor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roboam –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dab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asha – 24 yea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other evil rul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59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4T13:02:05Z</dcterms:created>
  <dc:creator>Terry W. Benton</dc:creator>
  <dc:description/>
  <dc:language>en-US</dc:language>
  <cp:lastModifiedBy>Frank D Vines</cp:lastModifiedBy>
  <dcterms:modified xsi:type="dcterms:W3CDTF">2005-07-05T14:02:37Z</dcterms:modified>
  <cp:revision>4</cp:revision>
  <dc:subject/>
  <dc:title>The Divided Kingdom</dc:title>
</cp:coreProperties>
</file>